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1B2-E9B2-4862-AE5B-CE85F82D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D0C-0989-4A03-BB00-2E0529F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E0C-6170-46FA-8FA0-E7EECCA8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BE8-1F1E-4DB9-9354-4EEA2700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E62-3E93-44CE-B356-8DCCDD26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26F-B2C3-4441-94F6-2FE8E217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34E-E469-421E-BB00-A80AF71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FE6-87E1-4BA0-884A-005C69C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72-C929-47ED-AF83-56D6C19D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FEF-3316-4E88-9342-E3BB7C1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B7A-A6BE-4D59-BB4F-E9A2CEA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DF9-A26E-464C-BCC3-049B24B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B99-A0EA-487A-9593-A1F10342A0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5373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edipo-y-la-esfinge"/>
          <p:cNvPicPr/>
          <p:nvPr/>
        </p:nvPicPr>
        <p:blipFill>
          <a:blip r:embed="rId1"/>
          <a:stretch/>
        </p:blipFill>
        <p:spPr>
          <a:xfrm>
            <a:off x="3346560" y="1932120"/>
            <a:ext cx="1957320" cy="455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La tragedia de Edipo expone la desesperación del hombre que se ve implicado en su propia investigación. Dando de esta manera referentes de investigación y aventuras en e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Partes que componen la trag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plantea el confli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La vida de los implicados se cru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cumple la predicción del oráculo con la muerte de La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resuelve en enigma de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Edipo comienza la investigación en la que más tarde verá que es el principal culp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Desenlace f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Imá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edipo-esfinge"/>
          <p:cNvPicPr/>
          <p:nvPr/>
        </p:nvPicPr>
        <p:blipFill>
          <a:blip r:embed="rId1"/>
          <a:stretch/>
        </p:blipFill>
        <p:spPr>
          <a:xfrm>
            <a:off x="42840" y="3090960"/>
            <a:ext cx="32670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dipo_re_freud_medaglia_telepatia"/>
          <p:cNvPicPr/>
          <p:nvPr/>
        </p:nvPicPr>
        <p:blipFill>
          <a:blip r:embed="rId2"/>
          <a:stretch/>
        </p:blipFill>
        <p:spPr>
          <a:xfrm>
            <a:off x="5194440" y="3633840"/>
            <a:ext cx="4114800" cy="34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42pic2"/>
          <p:cNvPicPr/>
          <p:nvPr/>
        </p:nvPicPr>
        <p:blipFill>
          <a:blip r:embed="rId3"/>
          <a:stretch/>
        </p:blipFill>
        <p:spPr>
          <a:xfrm>
            <a:off x="2859120" y="2000160"/>
            <a:ext cx="2730600" cy="496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ucha_edipo"/>
          <p:cNvPicPr/>
          <p:nvPr/>
        </p:nvPicPr>
        <p:blipFill>
          <a:blip r:embed="rId4"/>
          <a:stretch/>
        </p:blipFill>
        <p:spPr>
          <a:xfrm>
            <a:off x="5924520" y="1347840"/>
            <a:ext cx="3048120" cy="2455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Referente en el 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Esta tragedia con final abierto deja la resamantizacion de películas de aventuras e investigación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Recu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La chica terr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Desafi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atrix"/>
          <p:cNvPicPr/>
          <p:nvPr/>
        </p:nvPicPr>
        <p:blipFill>
          <a:blip r:embed="rId1"/>
          <a:stretch/>
        </p:blipFill>
        <p:spPr>
          <a:xfrm>
            <a:off x="6781680" y="3733920"/>
            <a:ext cx="1994040" cy="26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oderosaafrodita-300a"/>
          <p:cNvPicPr/>
          <p:nvPr/>
        </p:nvPicPr>
        <p:blipFill>
          <a:blip r:embed="rId2"/>
          <a:stretch/>
        </p:blipFill>
        <p:spPr>
          <a:xfrm>
            <a:off x="4191120" y="1981080"/>
            <a:ext cx="2579400" cy="36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958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paración de Edipo con la interpret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00080" y="982800"/>
          <a:ext cx="7172280" cy="5518080"/>
        </p:xfrm>
        <a:graphic>
          <a:graphicData uri="http://schemas.openxmlformats.org/drawingml/2006/table">
            <a:tbl>
              <a:tblPr/>
              <a:tblGrid>
                <a:gridCol w="2390760"/>
                <a:gridCol w="2390760"/>
                <a:gridCol w="239076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po R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 interpr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os que provocan la investigac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este de Te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cucha la muerte que se planea sobre un jefe de estado afric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ios de la implicacion en la investig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do esdipo se entera de la descripicion fisica de layo y el lugar en que mu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duda sobre las motivaciones de la protago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final de la investigac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po se arranca los ojos y Yocasta se suic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abandono de la protagonista. Se va del pa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07:45Z</dcterms:created>
  <dc:creator>eselza</dc:creator>
  <dc:description/>
  <dc:language>en-US</dc:language>
  <cp:lastModifiedBy>pc</cp:lastModifiedBy>
  <dcterms:modified xsi:type="dcterms:W3CDTF">2010-05-19T16:01:58Z</dcterms:modified>
  <cp:revision>6</cp:revision>
  <dc:subject/>
  <dc:title>Edipo Rey</dc:title>
</cp:coreProperties>
</file>